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1CA9-63A8-4163-9FC6-FD9033D41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ca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0be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0b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12A8-7B5D-4736-ADC3-7355427BD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ca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0b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0be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0be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0b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BE99-DF44-42BF-9664-65BDC1D38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ca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0be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0be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0be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0be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0be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0b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ACCF-37CF-4336-BE75-7D1827A2D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ca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0b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16E8-F30E-4165-8A48-2A1477F0B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ca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0b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898A-03BB-4451-9809-50AD4F2AF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ca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0be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0b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91FA-1968-4CB0-994C-95C468A24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c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01BF-D7E0-48E6-8992-61AC01E96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0b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D299-ABC9-43C2-ADB9-5BA5E2087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ca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0be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0be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0b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91BC-4013-421A-914C-968745AF6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ca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0be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0be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0b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833C-B389-43CC-B8D4-76F89C8B8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ca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0be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0be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0b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A592-ACC7-4AEC-8E01-06D6EC7B4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1e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ca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dca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0b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0be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0b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0b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0b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0be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0b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0be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0be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0b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0be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0be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0b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0be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0be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0b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0be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0be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0b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0be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0be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0b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0b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0be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0b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0b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E0DFE-7AED-430F-899A-DD3A2129AC0F}" type="slidenum">
              <a:rPr b="0" lang="en-US" sz="1400" spc="-1" strike="noStrike">
                <a:solidFill>
                  <a:srgbClr val="fff0b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1e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dca0"/>
                </a:solidFill>
                <a:latin typeface="Arial"/>
              </a:rPr>
              <a:t>Szomjas kacsa</a:t>
            </a:r>
            <a:endParaRPr b="0" lang="en-US" sz="4000" spc="-1" strike="noStrike">
              <a:solidFill>
                <a:srgbClr val="ffdca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0be"/>
                </a:solidFill>
                <a:latin typeface="Arial"/>
              </a:rPr>
              <a:t>A klasszikus tudományos játékok közé tartozik a szomjas kacsa.</a:t>
            </a:r>
            <a:endParaRPr b="0" lang="en-US" sz="3200" spc="-1" strike="noStrike">
              <a:solidFill>
                <a:srgbClr val="fff0be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0be"/>
                </a:solidFill>
                <a:latin typeface="Arial"/>
              </a:rPr>
              <a:t>Működéséhez nem kell elektromosság, nincs benne elrejtve rugó, de nem is örökmozgó.</a:t>
            </a:r>
            <a:endParaRPr b="0" lang="en-US" sz="3200" spc="-1" strike="noStrike">
              <a:solidFill>
                <a:srgbClr val="fff0be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4055760" cy="478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1e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dca0"/>
                </a:solidFill>
                <a:latin typeface="Arial"/>
              </a:rPr>
              <a:t>Hogyan lehet a kacsát mozgásba hozni?</a:t>
            </a:r>
            <a:endParaRPr b="0" lang="en-US" sz="4000" spc="-1" strike="noStrike">
              <a:solidFill>
                <a:srgbClr val="ffdca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0be"/>
                </a:solidFill>
                <a:latin typeface="Arial"/>
              </a:rPr>
              <a:t>Megmutatjuk neki, hogyan kell inni és a csőrét vízbe mártjuk.</a:t>
            </a:r>
            <a:endParaRPr b="0" lang="en-US" sz="3200" spc="-1" strike="noStrike">
              <a:solidFill>
                <a:srgbClr val="fff0be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0be"/>
                </a:solidFill>
                <a:latin typeface="Arial"/>
              </a:rPr>
              <a:t>Ha így sem akar, akkor az egész fejét bevizezzük.</a:t>
            </a:r>
            <a:endParaRPr b="0" lang="en-US" sz="3200" spc="-1" strike="noStrike">
              <a:solidFill>
                <a:srgbClr val="fff0be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0be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0" y="1773360"/>
            <a:ext cx="4059360" cy="31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1e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dca0"/>
                </a:solidFill>
                <a:latin typeface="Arial"/>
              </a:rPr>
              <a:t>A kacsa felépítése</a:t>
            </a:r>
            <a:endParaRPr b="0" lang="en-US" sz="4000" spc="-1" strike="noStrike">
              <a:solidFill>
                <a:srgbClr val="ffdca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708000" y="1600200"/>
            <a:ext cx="497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0be"/>
                </a:solidFill>
                <a:latin typeface="Arial"/>
              </a:rPr>
              <a:t>A kacsa egy hosszú üvegcsőhöz kapcsolódó két üveggömbből épül fel.</a:t>
            </a:r>
            <a:endParaRPr b="0" lang="en-US" sz="3200" spc="-1" strike="noStrike">
              <a:solidFill>
                <a:srgbClr val="fff0b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0be"/>
                </a:solidFill>
                <a:latin typeface="Arial"/>
              </a:rPr>
              <a:t>A fej üveggömbjéből egy vékony üvegcsőr áll ki, amely nedvszívó textíliával van bevonva.</a:t>
            </a:r>
            <a:endParaRPr b="0" lang="en-US" sz="3200" spc="-1" strike="noStrike">
              <a:solidFill>
                <a:srgbClr val="fff0be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0be"/>
                </a:solidFill>
                <a:latin typeface="Arial"/>
              </a:rPr>
              <a:t>A tartályban színezett éter van, amely nagyon jól párolog.</a:t>
            </a:r>
            <a:endParaRPr b="0" lang="en-US" sz="3200" spc="-1" strike="noStrike">
              <a:solidFill>
                <a:srgbClr val="fff0be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2857680" cy="428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1e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dca0"/>
                </a:solidFill>
                <a:latin typeface="Arial"/>
              </a:rPr>
              <a:t>Magyarázd meg a madár működését!</a:t>
            </a:r>
            <a:endParaRPr b="0" lang="en-US" sz="4000" spc="-1" strike="noStrike">
              <a:solidFill>
                <a:srgbClr val="ffdca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0be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8T14:21:46Z</dcterms:created>
  <dc:creator>SieglerGábor</dc:creator>
  <dc:description/>
  <dc:language>en-US</dc:language>
  <cp:lastModifiedBy>SieglerGábor</cp:lastModifiedBy>
  <dcterms:modified xsi:type="dcterms:W3CDTF">2005-06-18T15:33:07Z</dcterms:modified>
  <cp:revision>4</cp:revision>
  <dc:subject/>
  <dc:title>1. dia</dc:title>
</cp:coreProperties>
</file>